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08F-C1AE-47B2-BF20-EB7C8158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F7A-2C7C-42F8-8CE8-D73133C7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405-DC7A-439C-9E74-5D7D61ED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F44-317C-4997-9BA6-F1300A5D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8A1B-7612-4C5E-846D-C0DF7C15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4DB5-3975-4B79-9899-AF2D9E3D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D37C-A95E-4115-9496-E756DF6F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332E-8B34-4AB3-991D-07976444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57E9-7D8A-476D-9177-A3D412ED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E242-1618-4405-982B-58EB81BC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33E2-AF95-4DBD-9B13-AF45B90E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573-A932-4A9F-9581-64BBF84E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161B-D9BB-439E-B5E3-6E5010B8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0084-12F1-4BF1-883F-660AE02A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7BF8-AA1B-40B3-ADD1-850AB046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8C1C-E48A-4382-8715-E577B963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CCC9-C5C8-4339-B6A5-73EC1EB5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CDE-8C45-4B29-AF0C-14D7F88D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F38-DA6C-43E2-A8BD-274A9BBB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000-0B71-41B0-AA6C-712D0F86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46F-BB3F-4334-AAEB-0542AB92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068-6957-4AC7-BCD0-E24A8B10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E25-F916-4133-8F17-A2CEB34B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05B-C42D-4E38-B313-A3FA8AAE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6048-634D-4243-83C8-4A7E2C423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0DE0-D0EC-4402-9CC2-93AD6E04C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Camille_Corot_auto-retrato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a/Camille_Corot_-_Woman_with_a_Pearl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e/Corot_Rome_View_from_the_Farnese_Garden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32000" y="3357720"/>
            <a:ext cx="266220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Script MT Bold"/>
              </a:rPr>
              <a:t>Corot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cript MT Bold"/>
              </a:rPr>
              <a:t>Autorretra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916280"/>
            <a:ext cx="28573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cript MT Bold"/>
              </a:rPr>
              <a:t>Mujer con una perl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Archivo:Camille Corot - Woman with a Pear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628640"/>
            <a:ext cx="4029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Script MT Bold"/>
              </a:rPr>
              <a:t>Recuerdo de Mortefontaine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Imagen:Corot Rome View from the Farnese Garde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73360"/>
            <a:ext cx="71168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Script MT Bold"/>
              </a:rPr>
              <a:t>Die kleine Lesende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399132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cript MT Bold"/>
              </a:rPr>
              <a:t>Agosti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29113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2:54:36Z</dcterms:created>
  <dc:creator>Pc 5</dc:creator>
  <dc:description/>
  <dc:language>en-US</dc:language>
  <cp:lastModifiedBy>Pc 5</cp:lastModifiedBy>
  <dcterms:modified xsi:type="dcterms:W3CDTF">2008-12-19T13:04:34Z</dcterms:modified>
  <cp:revision>2</cp:revision>
  <dc:subject/>
  <dc:title>Diapositiva 1</dc:title>
</cp:coreProperties>
</file>